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A89-8C39-4191-BA80-F03FC21AE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ADE8-8722-4BD6-A57D-82D681FF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5019-1069-4E27-81A1-AFCE7935C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se on a handou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94B0-46DE-4C73-9576-E21678CB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EFE-7D19-4355-8258-65DC962E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56A-2D13-4806-915E-023A4DF6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3AC-AB3E-4494-9904-495D4A00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EF1-5699-4213-BEBD-9A342600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B41-6225-4191-BB9D-433AFCC8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EF1-FC66-4EC3-9489-B4923977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A2BC-4489-450F-B9E6-78A0F049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062-EAF3-4034-85F4-2B8C93EE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64D-D806-44D1-A4CA-D2EE724DF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7C46-AF12-4662-861A-C14DC72F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5182-A9DF-4C4E-A8E2-8DADCC40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A36-F5F8-49F3-BE38-6A393540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1FB8-2298-47D1-A32B-1C24A448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FD8-0310-48DF-A5F5-8752485C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C7A-3518-4466-BFC9-77A26190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479F-324A-4053-B087-862ACD74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4F2A-47CB-41BC-86FC-8633EED5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4530-CAD5-4639-8C80-BD7350AE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601-F628-4CFB-8250-AE1AE8E3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1487-C30B-4CD3-A118-EE685A57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CC6-1CCB-468A-8BDD-9FE69878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A6C3-0019-419F-9FD9-0CD6FC78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8A5-9A9C-42C7-992B-2C3D2921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19B2-1F6A-440D-8352-01ECFDB5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FBF-A10A-4873-AB72-CA8C40D3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4BF-1701-42E3-958A-30195B34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0C9E-5B1B-41C3-B6B0-DCEF8E96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D6E-0F1C-41E0-8BB3-359FA8C6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9235-0974-4A82-8505-849B2CB7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746E-1830-4153-8EA4-1875A98F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99A0-3373-4E27-A388-C6531D862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471-0AF5-49DB-B3FB-8C46A618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2CD-9D61-4286-9F93-5054D01D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A051-DE29-4E76-A00D-59E9B8BB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AAF-550A-422E-BBE3-1A39BF23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279-7ED8-4779-B4C8-DE1628F7C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714-C4A0-448E-A7E9-293D4210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F2E0-00BD-408D-B7BD-357053D4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C43C-2087-458C-A184-AAAF3F9D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C419-0B69-46D1-A196-F0F7490F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AC6D-6DD9-4A61-9606-8EBF4E6C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EC9-63BA-4E79-B5BF-43C98176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CCD-E0E1-4D91-83C5-9551668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3BF-6D9B-468C-9E5B-EA4AE9E9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261-56EB-4E67-B9FB-D9A8A335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145B-A567-40A9-A4C4-CA202324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872C-C86F-4875-9644-B650B82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01D0-B12F-459E-B478-5585BA6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13E8-F908-439E-BF0B-49D0DDE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BF57-1A73-477A-9CC9-29983278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E82-202E-4E71-9EF2-9C930C28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639E-E436-401F-9237-3CBC3BE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511-DC32-4349-B83E-A342AB2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2A8A-823D-4C18-92E0-369D942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3ACC-0073-48C5-9621-537937B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C8FC-44E1-49F6-AEBE-0C49BA3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F0DA-14CE-43D4-8996-E0675BE5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401-CECB-485B-BF88-4DD26F5F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E7C-8904-4B63-B329-9617629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F39-9533-441A-B1EE-87C7F7E7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9D2-644D-45C8-A233-DDEB711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505-0AA5-4E17-A299-797D7E29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F47-4F0D-4B4A-9FE3-F43B57A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29B-4607-4C13-A0B8-F404BFF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2B2-82EE-4A8F-8449-88EF6B8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F4D-F175-4408-A971-F76DCD83409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E487-CF07-4A14-A507-291F90E7C4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DBF0-7178-428E-8DA8-0658CCDCDE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518-274C-4CFE-9277-19B2060706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5146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15F-667F-4440-AA15-39F25340F9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43000" y="2286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EC1-2F72-4CEE-8E44-F64AA86D2D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Just checking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r goal consider both processes and cont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95A1-A980-4ADC-BC41-737D18C933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182880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8330-01B6-4A39-ACA4-C9AF787CFB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C75-5242-4218-AA01-B2C280A135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9A37-1202-4454-9173-4DC970C2F4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loud Callout 9"/>
          <p:cNvSpPr/>
          <p:nvPr/>
        </p:nvSpPr>
        <p:spPr>
          <a:xfrm>
            <a:off x="838080" y="160020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 Callout 8"/>
          <p:cNvSpPr/>
          <p:nvPr/>
        </p:nvSpPr>
        <p:spPr>
          <a:xfrm>
            <a:off x="57150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6E8-91E2-4C49-A6FF-2F29E06E34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867280" y="1828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pecific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23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3341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1"/>
          <p:cNvCxnSpPr/>
          <p:nvPr/>
        </p:nvCxnSpPr>
        <p:spPr>
          <a:xfrm>
            <a:off x="3885120" y="2971800"/>
            <a:ext cx="68652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6" name="Straight Arrow Connector 15"/>
          <p:cNvCxnSpPr/>
          <p:nvPr/>
        </p:nvCxnSpPr>
        <p:spPr>
          <a:xfrm>
            <a:off x="4876920" y="4419720"/>
            <a:ext cx="457920" cy="7848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up. 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BFF-EBAB-4E1F-9644-608E2134DE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23623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reinforces what you do now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57C-6F74-40F0-BF7C-0FCBA41D30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43000" y="16765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123-298A-46C6-9D74-B812DAB532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750-3D24-4BC0-B75F-EBD2809CFA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2A92-A1E4-4842-A79A-E82E5FCEFF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BE00-E147-4876-8659-AE87A9F9FE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7B4-54B6-432C-A144-124E302B5B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66680" y="182880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F0D-953D-46E2-A554-83239FE56A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goals you decided up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451-4EA3-4E79-99C9-5615893D38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other pairs t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2CB-6832-4A21-9AB3-909A3A68BA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82880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share a problem your students struggle with and explain the strugg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7CC-EE08-493A-9D15-E9912B7375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39D-A87B-4F36-B246-9EFFCE37E6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partner can help you think about an appropriate lesson goal to get at this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you can frame a question to get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E06D-E4EF-48EC-88A5-AC37E3526F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anticipate student problems; s/he’ll just deal with them as they a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C1A-4CB6-491F-837C-C2031524FC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erse ro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EBD-2F46-4E43-98C5-2ADC8C3B48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fferentia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focus in our next few sessions on ways to differentiate instruction (not just differentiate practic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4391-5DC1-4765-9C2B-90342E9FCD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al approaches of offering additional tools or scaffolding by presenting problems in bits, etc. is only one way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A2B-EA62-45CC-B9C7-04A3970FD2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C39A-C7CE-4EA5-A6C1-3ACC47EE8F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380-19D9-4D80-8098-58D1710691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447-210C-400E-BD0C-959102DB70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7EB5-D71D-4EFE-A0AE-1249414811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2910-25F6-4EA0-9720-E2150ADAD4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2CA3-E4ED-4E48-B2D3-AD9BBCB4FE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149-6DA9-4FBE-9B56-1F5759043C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A9B-BB0D-454A-864E-3E9EE0DBE1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C06-1B52-45B8-86D1-ACA7B22FDC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67A-6D8E-4869-9EDF-0DFDA0DF64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E15-B531-4F11-A548-4E43E76A76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to co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be doing lots more of this in the next couple of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AE23-0FA7-41FB-AE21-74BA29C26E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3B9-25B6-417C-98EB-A737EC6F6F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422-F9E2-4E1F-B9E8-DC66881386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93760" y="26067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6AF-A0BF-4D1A-9A66-02D1F4A90C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8641-F9C2-4B53-9025-5F6D0F1806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844-E0D2-4C2A-84B6-BC3B83E2CC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0:05:49Z</dcterms:created>
  <dc:creator>PSteele</dc:creator>
  <dc:description/>
  <dc:language>en-US</dc:language>
  <cp:lastModifiedBy>Marian Small</cp:lastModifiedBy>
  <dcterms:modified xsi:type="dcterms:W3CDTF">2009-07-24T18:58:12Z</dcterms:modified>
  <cp:revision>201</cp:revision>
  <dc:subject/>
  <dc:title>Slide 1</dc:title>
</cp:coreProperties>
</file>